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6.png" ContentType="image/png"/>
  <Override PartName="/ppt/media/image1.jpeg" ContentType="image/jpeg"/>
  <Override PartName="/ppt/media/image15.png" ContentType="image/png"/>
  <Override PartName="/ppt/media/image16.wmf" ContentType="image/x-wmf"/>
  <Override PartName="/ppt/media/image29.wmf" ContentType="image/x-wmf"/>
  <Override PartName="/ppt/media/image17.wmf" ContentType="image/x-wmf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8.png" ContentType="image/png"/>
  <Override PartName="/ppt/media/image2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6EEC-9E5B-4DFC-AF27-0CFEDC150B7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1B54-9373-4B1E-82FE-3CB15283C8D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014C-5E2F-41D4-A483-A99414257B3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F389-81B5-45FF-982E-CF651ACEA0C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9816-207B-4B4A-A964-2F3ECF8809C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E243-5AA7-459C-91A7-C7D908B914B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C280-993A-4C14-959F-87169B62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C4CC-CDA1-4748-BFF2-193E746D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0593-851B-4802-964D-4E141B41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3F53-47BB-4EFF-8690-07E94673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0389-C120-4A53-A6E4-6FED73D3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566B-E09A-4189-8BE9-B0735804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8975-A175-46D7-B53F-3A5B806F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8387-6CE5-4A62-8941-AE38716F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FBCF-6926-419F-8DE5-7C56B6EF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3080-A5F7-47E8-998B-6E9EFEA6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891E-5B64-4B57-B969-4C8656C4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1B11-9235-4989-903A-0B3024A4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E076-A3D9-4263-876F-4E92F1EB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13EF-DBA2-4383-AF96-A4161DF1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55A7-4D00-4870-8F7D-FACB8FC1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5F3A-12A5-4936-8245-D2085692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2D9A-3D0A-4735-BDD0-82AC345A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A3389-F7F4-4212-9750-4401FCD1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32262-AC41-440D-8B91-B32D2420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D9F83-3EBC-4712-B091-EA200487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F1001-EBAD-4C50-9C97-0876F9F8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71AA1-9D2B-44C7-AF69-B95B2ECD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0328-2439-40A6-88DE-4283008C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DD235-6F20-45F8-8590-4430A706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3E6BC-4A2A-4643-8F86-7F2B6468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1EF9A-4CDA-4E81-ADE0-219809D6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82685-F0CC-4E48-AD73-1E3A9288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20531-982A-4D0A-A499-76B5827E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D89A7-A5DB-4B48-AB86-0F19E1EF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EDB3A-C23A-4487-B232-20F42BB1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CD93F-62A7-4333-9995-82474E99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BD9B6-D6FF-4C4C-B142-9CCDF92C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60769-1B20-4B39-A142-C202FF7B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BFAB-4775-43DD-B118-6784D712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82CBA-959E-4A84-844C-B1069C1C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F97CC-D90A-48FA-8B12-5B168808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64680-0154-4009-BD3A-84344997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02122-F2AF-4253-9930-97064E4C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C6F20-9997-413F-8CC6-C93951D0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5CDAC-EE39-4DCC-A95A-EC35B65E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94A6C-D1AC-44E0-BBFC-C636DBD5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CEA3F-D7DE-47B9-B0B2-40CDDE9F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25AEB-167C-4B39-B197-C535CD2F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6E5F-DB6A-43C4-B691-6277F58A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6E68-A85A-4F9F-A957-99C39BA1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74B-E1CA-4531-B472-5DC09509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DA55-7877-487D-82CA-1F909A2F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9E42-AD07-4552-B50E-270B6017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E651-6CAD-4010-8CDD-664D1F9453F3}" type="datetime">
              <a:rPr b="0" lang="en-CA" sz="1200" spc="-1" strike="noStrike">
                <a:solidFill>
                  <a:srgbClr val="045c75"/>
                </a:solidFill>
                <a:latin typeface="Constant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137F-11C2-4BFC-B70E-A7726F16BB57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2352-7C4A-425B-837D-9BA987292C1C}" type="datetime">
              <a:rPr b="0" lang="en-CA" sz="1200" spc="-1" strike="noStrike">
                <a:solidFill>
                  <a:srgbClr val="d1eaee"/>
                </a:solidFill>
                <a:latin typeface="Constant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64D5-0A6D-44C8-94DA-4591BFCC7916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FEBE-48CF-4BB0-8F62-F0DB5E4795D5}" type="datetime">
              <a:rPr b="0" lang="en-CA" sz="1200" spc="-1" strike="noStrike">
                <a:solidFill>
                  <a:srgbClr val="d1eaee"/>
                </a:solidFill>
                <a:latin typeface="Constant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0DE6-B028-4716-9CD9-0C19E540E050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96FD-2B41-4243-AE8C-075D3452AE96}" type="datetime">
              <a:rPr b="0" lang="en-CA" sz="1200" spc="-1" strike="noStrike">
                <a:solidFill>
                  <a:srgbClr val="045c75"/>
                </a:solidFill>
                <a:latin typeface="Constant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F11E-900C-4C4C-AE61-0D3BDEE9AAB4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2114640" y="615960"/>
            <a:ext cx="3579840" cy="706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26920" y="1557360"/>
            <a:ext cx="7632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alibri"/>
              </a:rPr>
              <a:t>Assigned work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g 74#5cd,6ad,7b,8-11,14,15,19,20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alibri"/>
              </a:rPr>
              <a:t>Slope of a tangent to any x value for the curve f(x) is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alibri"/>
              </a:rPr>
              <a:t>This is know as the “Derivative by First Principles”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8028000" y="6237360"/>
            <a:ext cx="896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9"/>
          <p:cNvGraphicFramePr/>
          <p:nvPr/>
        </p:nvGraphicFramePr>
        <p:xfrm>
          <a:off x="2268360" y="3141720"/>
          <a:ext cx="3063960" cy="97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3141720"/>
                    <a:ext cx="306396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07" name="Straight Arrow Connector 7"/>
          <p:cNvCxnSpPr/>
          <p:nvPr/>
        </p:nvCxnSpPr>
        <p:spPr>
          <a:xfrm flipV="1">
            <a:off x="3130920" y="4220280"/>
            <a:ext cx="723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68360" y="69192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4617b"/>
                </a:solidFill>
                <a:latin typeface="Calibri"/>
              </a:rPr>
              <a:t>Differentiabilit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5280" y="1412640"/>
            <a:ext cx="82915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Calibri"/>
              </a:rPr>
              <a:t>Ex. 1: 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For the following piecewise function determine if the function is differentiable at a) x=6   b) x= 4   c) x= 2 d) x=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Footer Placeholder 5"/>
          <p:cNvSpPr/>
          <p:nvPr/>
        </p:nvSpPr>
        <p:spPr>
          <a:xfrm>
            <a:off x="8101080" y="6237360"/>
            <a:ext cx="67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Object 6"/>
          <p:cNvGraphicFramePr/>
          <p:nvPr/>
        </p:nvGraphicFramePr>
        <p:xfrm>
          <a:off x="1403280" y="2349360"/>
          <a:ext cx="43880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349360"/>
                    <a:ext cx="43880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68360" y="69192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4617b"/>
                </a:solidFill>
                <a:latin typeface="Calibri"/>
              </a:rPr>
              <a:t>Differentiabilit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50920" y="1412640"/>
            <a:ext cx="82915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ince for x=6.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Therefore,            is differentiable at x = 6.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Footer Placeholder 5"/>
          <p:cNvSpPr/>
          <p:nvPr/>
        </p:nvSpPr>
        <p:spPr>
          <a:xfrm>
            <a:off x="8101080" y="6237360"/>
            <a:ext cx="67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3"/>
          <p:cNvGraphicFramePr/>
          <p:nvPr/>
        </p:nvGraphicFramePr>
        <p:xfrm>
          <a:off x="2050920" y="2349360"/>
          <a:ext cx="3726000" cy="15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349360"/>
                    <a:ext cx="372600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4"/>
          <p:cNvGraphicFramePr/>
          <p:nvPr/>
        </p:nvGraphicFramePr>
        <p:xfrm>
          <a:off x="2195640" y="4508640"/>
          <a:ext cx="85068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4508640"/>
                    <a:ext cx="8506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68360" y="69192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4617b"/>
                </a:solidFill>
                <a:latin typeface="Calibri"/>
              </a:rPr>
              <a:t>Differentiabilit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5280" y="1412640"/>
            <a:ext cx="82915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b) At x = 4.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BUT         is NOT continuous at x = 4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Therefore,            is NOT differentiable at x = 4.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8101080" y="6237360"/>
            <a:ext cx="67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Object 2"/>
          <p:cNvGraphicFramePr/>
          <p:nvPr/>
        </p:nvGraphicFramePr>
        <p:xfrm>
          <a:off x="1979640" y="1916280"/>
          <a:ext cx="3726000" cy="15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916280"/>
                    <a:ext cx="372600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Object 3"/>
          <p:cNvGraphicFramePr/>
          <p:nvPr/>
        </p:nvGraphicFramePr>
        <p:xfrm>
          <a:off x="2340000" y="4941720"/>
          <a:ext cx="85104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941720"/>
                    <a:ext cx="8510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4"/>
          <p:cNvGraphicFramePr/>
          <p:nvPr/>
        </p:nvGraphicFramePr>
        <p:xfrm>
          <a:off x="2771640" y="3573360"/>
          <a:ext cx="505080" cy="52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3573360"/>
                    <a:ext cx="50508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68360" y="69192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4617b"/>
                </a:solidFill>
                <a:latin typeface="Calibri"/>
              </a:rPr>
              <a:t>Differentiabilit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5280" y="1412640"/>
            <a:ext cx="82915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c) At x = 2.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Therefore,            is NOT differentiable at x = 2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d) At x = 0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Therefore,            is NOT differentiable at x = 2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Footer Placeholder 5"/>
          <p:cNvSpPr/>
          <p:nvPr/>
        </p:nvSpPr>
        <p:spPr>
          <a:xfrm>
            <a:off x="8101080" y="6237360"/>
            <a:ext cx="67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2"/>
          <p:cNvGraphicFramePr/>
          <p:nvPr/>
        </p:nvGraphicFramePr>
        <p:xfrm>
          <a:off x="2340000" y="1700280"/>
          <a:ext cx="313848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700280"/>
                    <a:ext cx="313848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3"/>
          <p:cNvGraphicFramePr/>
          <p:nvPr/>
        </p:nvGraphicFramePr>
        <p:xfrm>
          <a:off x="2195640" y="2852640"/>
          <a:ext cx="850680" cy="5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2852640"/>
                    <a:ext cx="8506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5"/>
          <p:cNvGraphicFramePr/>
          <p:nvPr/>
        </p:nvGraphicFramePr>
        <p:xfrm>
          <a:off x="2556000" y="3933720"/>
          <a:ext cx="3560760" cy="57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3933720"/>
                    <a:ext cx="356076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7"/>
          <p:cNvGraphicFramePr/>
          <p:nvPr/>
        </p:nvGraphicFramePr>
        <p:xfrm>
          <a:off x="2195640" y="5229360"/>
          <a:ext cx="85068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95640" y="5229360"/>
                    <a:ext cx="8506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68360" y="69192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4617b"/>
                </a:solidFill>
                <a:latin typeface="Calibri"/>
              </a:rPr>
              <a:t>Differentiabilit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95280" y="1412640"/>
            <a:ext cx="82915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Symbols for Derivative: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Footer Placeholder 5"/>
          <p:cNvSpPr/>
          <p:nvPr/>
        </p:nvSpPr>
        <p:spPr>
          <a:xfrm>
            <a:off x="8101080" y="6237360"/>
            <a:ext cx="67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Object 6"/>
          <p:cNvGraphicFramePr/>
          <p:nvPr/>
        </p:nvGraphicFramePr>
        <p:xfrm>
          <a:off x="1042920" y="2060640"/>
          <a:ext cx="5551560" cy="25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060640"/>
                    <a:ext cx="555156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68360" y="69192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4617b"/>
                </a:solidFill>
                <a:latin typeface="Calibri"/>
              </a:rPr>
              <a:t>Differentiabilit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412640"/>
            <a:ext cx="82915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Ex 1: Find the equation of the normal to the curve 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Footer Placeholder 5"/>
          <p:cNvSpPr/>
          <p:nvPr/>
        </p:nvSpPr>
        <p:spPr>
          <a:xfrm>
            <a:off x="8101080" y="6237360"/>
            <a:ext cx="67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6"/>
          <p:cNvGraphicFramePr/>
          <p:nvPr/>
        </p:nvGraphicFramePr>
        <p:xfrm>
          <a:off x="1116000" y="1916280"/>
          <a:ext cx="3527280" cy="55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16280"/>
                    <a:ext cx="35272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TextBox 6"/>
          <p:cNvSpPr/>
          <p:nvPr/>
        </p:nvSpPr>
        <p:spPr>
          <a:xfrm>
            <a:off x="1332000" y="3141720"/>
            <a:ext cx="3887640" cy="31114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ote: An linear equation needs a slope and a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o get the slope take the deriva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o get a point find f(-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normal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is a line at a point on f(x) perpendicular to the tangent line at that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ee solution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Straight Arrow Connector 8"/>
          <p:cNvCxnSpPr/>
          <p:nvPr/>
        </p:nvCxnSpPr>
        <p:spPr>
          <a:xfrm flipV="1">
            <a:off x="2770560" y="2638080"/>
            <a:ext cx="2520" cy="5040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68360" y="69192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4617b"/>
                </a:solidFill>
                <a:latin typeface="Calibri"/>
              </a:rPr>
              <a:t>Differentiabilit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412640"/>
            <a:ext cx="82915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8101080" y="6237360"/>
            <a:ext cx="67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6"/>
          <p:cNvGraphicFramePr/>
          <p:nvPr/>
        </p:nvGraphicFramePr>
        <p:xfrm>
          <a:off x="463680" y="1682640"/>
          <a:ext cx="421632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82640"/>
                    <a:ext cx="421632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3"/>
          <p:cNvGraphicFramePr/>
          <p:nvPr/>
        </p:nvGraphicFramePr>
        <p:xfrm>
          <a:off x="539640" y="1268280"/>
          <a:ext cx="230040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268280"/>
                    <a:ext cx="23004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4"/>
          <p:cNvGraphicFramePr/>
          <p:nvPr/>
        </p:nvGraphicFramePr>
        <p:xfrm>
          <a:off x="5148360" y="1916280"/>
          <a:ext cx="1042920" cy="106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1916280"/>
                    <a:ext cx="1042920" cy="106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5"/>
          <p:cNvGraphicFramePr/>
          <p:nvPr/>
        </p:nvGraphicFramePr>
        <p:xfrm>
          <a:off x="3708360" y="4797360"/>
          <a:ext cx="5121360" cy="101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08360" y="4797360"/>
                    <a:ext cx="51213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68360" y="69192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4617b"/>
                </a:solidFill>
                <a:latin typeface="Calibri"/>
              </a:rPr>
              <a:t>Differentiabilit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412640"/>
            <a:ext cx="82915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Footer Placeholder 5"/>
          <p:cNvSpPr/>
          <p:nvPr/>
        </p:nvSpPr>
        <p:spPr>
          <a:xfrm>
            <a:off x="8101080" y="6237360"/>
            <a:ext cx="67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8"/>
          <p:cNvSpPr/>
          <p:nvPr/>
        </p:nvSpPr>
        <p:spPr>
          <a:xfrm>
            <a:off x="324000" y="1413000"/>
            <a:ext cx="813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Graphs of Derivatives: The graph of a derivative is the graph of the changing slopes of the tang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x 2: Given the following graphs sketch the graph of the deriva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)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Chart 11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2737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68360" y="69192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4617b"/>
                </a:solidFill>
                <a:latin typeface="Calibri"/>
              </a:rPr>
              <a:t>Differentiabilit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4000" y="1412640"/>
            <a:ext cx="82915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Footer Placeholder 5"/>
          <p:cNvSpPr/>
          <p:nvPr/>
        </p:nvSpPr>
        <p:spPr>
          <a:xfrm>
            <a:off x="8101080" y="6237360"/>
            <a:ext cx="67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324000" y="1413000"/>
            <a:ext cx="81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b)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Chart 6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2232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2114640" y="615960"/>
            <a:ext cx="3579840" cy="7063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1557360"/>
            <a:ext cx="68011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53880" indent="-353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ffffff"/>
                </a:solidFill>
                <a:latin typeface="Calibri"/>
              </a:rPr>
              <a:t>When does a derivative exist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53880" indent="-35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600" spc="-1" strike="noStrike">
                <a:solidFill>
                  <a:srgbClr val="ffffff"/>
                </a:solidFill>
                <a:latin typeface="Calibri"/>
              </a:rPr>
              <a:t>For a function,           to be Differentiable at x=c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Left hand limit = Right hand limit of BOTH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AND the function MUST be continuous at x = c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53880" indent="-35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53880" indent="-353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600" spc="-1" strike="noStrike">
                <a:solidFill>
                  <a:srgbClr val="ffffff"/>
                </a:solidFill>
                <a:latin typeface="Calibri"/>
              </a:rPr>
              <a:t>Differentiability Implies Continu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If a function is differentiable at x=c then it MUST be continuous at x=c BUT if a function is continuous it does not have to be differentiabl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8028000" y="6237360"/>
            <a:ext cx="896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8"/>
          <p:cNvGraphicFramePr/>
          <p:nvPr/>
        </p:nvGraphicFramePr>
        <p:xfrm>
          <a:off x="2843280" y="2565360"/>
          <a:ext cx="608040" cy="35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2565360"/>
                    <a:ext cx="608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9"/>
          <p:cNvGraphicFramePr/>
          <p:nvPr/>
        </p:nvGraphicFramePr>
        <p:xfrm>
          <a:off x="1258920" y="3284640"/>
          <a:ext cx="2233440" cy="458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58920" y="3284640"/>
                    <a:ext cx="22334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68360" y="69192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4617b"/>
                </a:solidFill>
                <a:latin typeface="Calibri"/>
              </a:rPr>
              <a:t>Differentiabilit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95280" y="1412640"/>
            <a:ext cx="82915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The following are NOT differentiable at x = 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USP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       VERTICAL TANGENT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DISCONTINUOUS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Footer Placeholder 5"/>
          <p:cNvSpPr/>
          <p:nvPr/>
        </p:nvSpPr>
        <p:spPr>
          <a:xfrm>
            <a:off x="8101080" y="6237360"/>
            <a:ext cx="67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Straight Arrow Connector 7"/>
          <p:cNvCxnSpPr/>
          <p:nvPr/>
        </p:nvCxnSpPr>
        <p:spPr>
          <a:xfrm flipV="1">
            <a:off x="898560" y="2133360"/>
            <a:ext cx="2160" cy="1945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52" name="Straight Arrow Connector 9"/>
          <p:cNvCxnSpPr/>
          <p:nvPr/>
        </p:nvCxnSpPr>
        <p:spPr>
          <a:xfrm>
            <a:off x="323640" y="3429000"/>
            <a:ext cx="194508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53" name="Straight Connector 11"/>
          <p:cNvSpPr/>
          <p:nvPr/>
        </p:nvSpPr>
        <p:spPr>
          <a:xfrm>
            <a:off x="1332000" y="2276640"/>
            <a:ext cx="0" cy="1728720"/>
          </a:xfrm>
          <a:prstGeom prst="line">
            <a:avLst/>
          </a:prstGeom>
          <a:ln w="9360">
            <a:solidFill>
              <a:srgbClr val="06509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Straight Arrow Connector 16"/>
          <p:cNvCxnSpPr/>
          <p:nvPr/>
        </p:nvCxnSpPr>
        <p:spPr>
          <a:xfrm flipV="1">
            <a:off x="3706920" y="2204640"/>
            <a:ext cx="2160" cy="1945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55" name="Straight Arrow Connector 17"/>
          <p:cNvCxnSpPr/>
          <p:nvPr/>
        </p:nvCxnSpPr>
        <p:spPr>
          <a:xfrm>
            <a:off x="3132000" y="3499920"/>
            <a:ext cx="19454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56" name="Straight Connector 18"/>
          <p:cNvSpPr/>
          <p:nvPr/>
        </p:nvSpPr>
        <p:spPr>
          <a:xfrm>
            <a:off x="4140360" y="2349360"/>
            <a:ext cx="0" cy="1727280"/>
          </a:xfrm>
          <a:prstGeom prst="line">
            <a:avLst/>
          </a:prstGeom>
          <a:ln w="9360">
            <a:solidFill>
              <a:srgbClr val="06509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Straight Arrow Connector 19"/>
          <p:cNvCxnSpPr/>
          <p:nvPr/>
        </p:nvCxnSpPr>
        <p:spPr>
          <a:xfrm flipV="1">
            <a:off x="6369480" y="2204640"/>
            <a:ext cx="2520" cy="1945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58" name="Straight Arrow Connector 20"/>
          <p:cNvCxnSpPr/>
          <p:nvPr/>
        </p:nvCxnSpPr>
        <p:spPr>
          <a:xfrm>
            <a:off x="5796000" y="3499920"/>
            <a:ext cx="19454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59" name="Straight Connector 21"/>
          <p:cNvSpPr/>
          <p:nvPr/>
        </p:nvSpPr>
        <p:spPr>
          <a:xfrm>
            <a:off x="6804000" y="2349360"/>
            <a:ext cx="0" cy="1727280"/>
          </a:xfrm>
          <a:prstGeom prst="line">
            <a:avLst/>
          </a:prstGeom>
          <a:ln w="9360">
            <a:solidFill>
              <a:srgbClr val="06509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68360" y="69192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4617b"/>
                </a:solidFill>
                <a:latin typeface="Calibri"/>
              </a:rPr>
              <a:t>Differentiabilit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4000" y="1267920"/>
            <a:ext cx="8496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Mr.Function knew that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      so he took the  slopes from the s-t graph to get a v-t graph and then the slopes from the v-t graph to get the a-t graph. Mr. Calculus said “there is a problem with Mr. Function’s graphs”. Explain in terms of differentiability what the problem i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Footer Placeholder 5"/>
          <p:cNvSpPr/>
          <p:nvPr/>
        </p:nvSpPr>
        <p:spPr>
          <a:xfrm>
            <a:off x="8101080" y="6237360"/>
            <a:ext cx="67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4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2448000" cy="2232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5" descr=""/>
          <p:cNvPicPr/>
          <p:nvPr/>
        </p:nvPicPr>
        <p:blipFill>
          <a:blip r:embed="rId2"/>
          <a:stretch/>
        </p:blipFill>
        <p:spPr>
          <a:xfrm>
            <a:off x="3348000" y="3213000"/>
            <a:ext cx="2448000" cy="2232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2" descr=""/>
          <p:cNvPicPr/>
          <p:nvPr/>
        </p:nvPicPr>
        <p:blipFill>
          <a:blip r:embed="rId3"/>
          <a:stretch/>
        </p:blipFill>
        <p:spPr>
          <a:xfrm>
            <a:off x="6084720" y="3141720"/>
            <a:ext cx="2519640" cy="2519280"/>
          </a:xfrm>
          <a:prstGeom prst="rect">
            <a:avLst/>
          </a:prstGeom>
          <a:ln w="0">
            <a:noFill/>
          </a:ln>
        </p:spPr>
      </p:pic>
      <p:sp>
        <p:nvSpPr>
          <p:cNvPr id="266" name="TextBox 23"/>
          <p:cNvSpPr/>
          <p:nvPr/>
        </p:nvSpPr>
        <p:spPr>
          <a:xfrm>
            <a:off x="1187280" y="5877000"/>
            <a:ext cx="13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sition Time Graph s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4"/>
          <p:cNvSpPr/>
          <p:nvPr/>
        </p:nvSpPr>
        <p:spPr>
          <a:xfrm>
            <a:off x="4067280" y="5877000"/>
            <a:ext cx="115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Velocity Time Graph v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5"/>
          <p:cNvSpPr/>
          <p:nvPr/>
        </p:nvSpPr>
        <p:spPr>
          <a:xfrm>
            <a:off x="6732720" y="5950080"/>
            <a:ext cx="208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celeration Time Graph a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2"/>
          <p:cNvGraphicFramePr/>
          <p:nvPr/>
        </p:nvGraphicFramePr>
        <p:xfrm>
          <a:off x="2771640" y="1268280"/>
          <a:ext cx="3384720" cy="411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0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71640" y="1268280"/>
                    <a:ext cx="33847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7:07:38Z</dcterms:created>
  <dc:creator>sandy</dc:creator>
  <dc:description/>
  <dc:language>en-US</dc:language>
  <cp:lastModifiedBy>sandy</cp:lastModifiedBy>
  <dcterms:modified xsi:type="dcterms:W3CDTF">2011-07-21T17:30:37Z</dcterms:modified>
  <cp:revision>181</cp:revision>
  <dc:subject/>
  <dc:title>2.2 Derivatives of Polynomial Functions</dc:title>
</cp:coreProperties>
</file>